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E78-BD91-4AEF-A387-05BE19D8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2A4-8D25-4862-8394-850B134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E1489-13CC-41D7-B90D-647066FE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7CC06-402B-4FF5-95E2-27F8C06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A515D-1135-43AD-A6B5-AA957B75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45F24-60B9-4357-97A7-A183F663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929C4-7A08-4D44-989E-FC560027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B3B40-078B-4680-815B-625689FE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AF716-5B96-4E67-906D-6197A51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689EE-9156-402C-9C62-2CE608E9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C45B-FA2B-476A-A64A-EC4D37CD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B6CEE-FF6B-4B1E-AD3F-B3D15EED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269-DD67-4918-8289-079D273A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84FAC-8635-4D5C-B4C8-08656BB7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94357-320C-461A-B80E-F4717DAA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69846-4C1C-4029-AB0A-801F0878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A30FB-49DF-4D8D-B0DD-92938D70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8AC1C-8868-4EAD-A8D4-7D39B5F6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439F3-B770-4295-8565-45092F8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4C8F9-80CE-4A17-9E0A-8833FE1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88703-F59E-431D-8607-65C80037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BD897-4477-49D3-A477-7ED0DA4B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BCDB4-4967-4A89-869A-6F75C04A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B68-4E9B-4AE9-AF88-90F4E5BD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82EE4-E0E8-471C-A8D8-78C36D54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B231-90B7-4F3E-8FC3-5F6B4020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A117-04D4-451E-832C-44BA93D5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962C-9E4C-4AA4-A102-6BB985B8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2668-99B5-4A5D-B70D-DCF2574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3D4-C3D0-4ED3-92CA-49E916B9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36A1-8DD1-4B81-9DFE-88B8915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A5EB-B0F9-4A9C-83F1-D2D061E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6D6-C88C-4072-8CD4-96BD002F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68DF-73D7-4992-B336-C80A2616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5B28-F651-46CF-AD23-24D9A85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7C8D-07DE-48CF-A370-08AFB78C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ED33-2CB9-4FE5-AAD8-F1A5DE1B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EA7C-C2E2-40F2-8881-CE59526A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9A028-F5B2-4149-BF0C-DB66EC11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4F79C-9FBC-4966-B390-FDBAC6A6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21DED-3F6B-4642-85D7-23713394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36D88-8DF9-4D36-A93E-6BE1C54C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4BF4C-EFEA-403F-9F61-C5DF462E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1CF-30B3-4177-B3BD-487BEA4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50E9A-6357-4633-B615-81AD655E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D55F5-F2AA-493D-B841-4077822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9B369-A8DC-4448-9881-5CF3EC9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4DA4C-F6E7-4F87-88E5-5267D761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A098B-3688-40D2-AFCF-C6601D64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2B76D-E987-4F36-A541-63D639BD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A736C-AC24-4DD6-97E2-E513FDB3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EC1CE-4C93-4797-91BF-557D7B58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E98D1-F393-4822-B694-208944A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9C7F73-E5D0-43EF-818A-CFDE6620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538-69CA-471F-974E-A87C4189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3F705-11E5-458F-942D-81B50537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A34CD-4283-4798-8492-09F1122D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7C825-7C59-4B68-94B4-4CB13F5D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CF579-5A3E-4C26-8999-4FB89DF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5F778-F40F-4364-B107-A4A259E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1D572-33F1-47E6-B7CF-A9E6E1AF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559D9-9DAA-4FFE-B035-ED26A29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2C1DF-F2A4-4AB7-BAAB-207B0DE2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E8684-F895-48D6-BFBC-15B53CEA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2518-C480-43E4-95A9-ADF17590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F82-FAF7-4C76-AB85-DDE41EA1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97495-6CDF-4795-8FB4-90E39C7E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EF76E-7335-4554-BA27-D7D1D43E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B02D4-28C8-4A06-85BD-2CAA360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A1D54-260F-4081-A2A0-CA0078A1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CAE0-792A-4E31-B2F0-5DF1E8E3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C1C89-314C-488B-B32F-974BA92D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F7F1-75CF-4DC3-89C0-D1CF9ECC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58F0E-902F-4008-AEB0-5DF7F88E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3576-9C98-46C8-BC36-2E479648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D8B4-08B7-4DA7-8580-E0BB5A94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5B4-97E5-44EF-B4D2-924E163E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50E0-3159-41B2-9DC4-AF732DBC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44C8-84F0-4188-B05C-505A73F8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3811-E145-43BD-831A-E028DB27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02A74-55EE-44CA-A4C8-F8122003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918F-CAA1-467D-9D5A-522D7F6F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1437-D644-42D6-8C8D-BD232F78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B4044-94D6-4E6E-BD19-7A11533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F0083-8524-49E0-AE1D-5DFD396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48D9E-176D-40CA-870F-92A3BA6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E64A1-8BBD-4E2A-8032-F0290E5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6AD-4EB9-48B6-8766-389FE219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6C2A-7617-48D9-8208-42F5651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5C26-AD87-4B97-A0B0-E9052AE5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2D90-7817-448A-94B3-95184F9C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944C1-AA16-4BD4-8B02-CEA4B8B4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E3FF6-E346-4DE8-B188-32FC35B7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65AE-5955-41CA-A074-ADB6F72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F73C6-C74A-4752-814A-8C342514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C519-5BED-4CB8-9968-FA339E18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70ABE-0E68-41A1-9D63-2D3908DA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EEEFB-4007-405F-AB53-45D835C4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82D-E607-4316-B277-3F3F6AC3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35527-C6FC-4139-B1F9-2FB8D11B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0F41D-1926-42D8-808F-BFE77E01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ADB66-4F2C-4B51-9F83-1869E2C1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90D67-9BA7-4743-89DF-73DD88C2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4BAD-5753-48C4-B5D4-A62BEEEC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FC96A-C952-4C63-B684-6E0267FC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E56D0-F6B6-4736-A4C4-AA56E2E2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58CD-D445-4BB3-96F5-9D48362A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2F6AC-4AB0-46D9-8AF7-74634754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B5D52-53B6-4ABC-ACF2-672DD1D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1B0-E8FF-43B4-8292-1CB54A0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91C96-EC48-4D63-AA0B-20B279E2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E2D64-BB68-430B-B9D1-57346CDC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01F18-A930-4DA0-85D3-B3C5A836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74B30-1C50-46CD-BF9B-C69BF242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73500-0BD0-4640-AFA0-1A44EBA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6DF04-159D-4790-A265-35728E4E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D324A-0863-4331-B88E-A0A0CB7A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3AC8D-8E8F-40AC-980E-62BB3B63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3D094-9977-4CDE-ADDD-3BC186A9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857D2-3D39-490A-B317-2F2F1B05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DE8A-65D4-413F-8833-A12457554992}" type="slidenum">
              <a:rPr b="0" lang="en-A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39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2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028B-7EDC-4361-9653-A078A52D3210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5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9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DAB7-FDE7-4B34-8DD7-70BDC1E19839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E6A-8C7B-414F-984F-33FD9A2A9380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73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BECA-9AF4-4394-89E6-6A16A20D596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0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3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7EF0-22D3-45E8-B6F1-EDB0E40A45C9}" type="slidenum">
              <a:rPr b="0" lang="en-A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10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4F8E-9A88-4A9D-A493-75911E1ADA75}" type="slidenum">
              <a:rPr b="0" lang="en-A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4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8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8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6A6D-258D-499C-B81B-F38670B56B13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3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3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2E63-554B-49E4-83C3-02A27EA4CC8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682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E2F0-B8F4-48A8-88F2-B5F626489EA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cc"/>
                </a:solidFill>
                <a:latin typeface="Tahoma"/>
              </a:rPr>
              <a:t>HEAT SOURC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ECTOTHERM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pend on external sources of heat to generate body warm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IKOLOTHERM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rganisms with fluctuating tempera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fdef6"/>
                </a:solidFill>
                <a:latin typeface="Arial"/>
              </a:rPr>
              <a:t>ENDOTHERMIC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-built source of body heat – their internal energy-releasing chemical reactions that produce heat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intain fairly constant body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HOMEOTHERMI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ganisms with constant temperat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0:43:15Z</dcterms:created>
  <dc:creator>Lyn Clarkson</dc:creator>
  <dc:description/>
  <dc:language>en-US</dc:language>
  <cp:lastModifiedBy>Emily</cp:lastModifiedBy>
  <dcterms:modified xsi:type="dcterms:W3CDTF">2008-07-22T11:44:08Z</dcterms:modified>
  <cp:revision>2</cp:revision>
  <dc:subject/>
  <dc:title>HEAT SOURCE</dc:title>
</cp:coreProperties>
</file>